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ct" ContentType="image/x-pict"/>
  <Override PartName="/ppt/media/image3.pct" ContentType="image/x-pict"/>
  <Override PartName="/ppt/media/image4.pct" ContentType="image/x-pict"/>
  <Override PartName="/ppt/media/image5.pct" ContentType="image/x-pict"/>
  <Override PartName="/ppt/media/image6.pct" ContentType="image/x-pict"/>
  <Override PartName="/ppt/media/image7.pct" ContentType="image/x-pict"/>
  <Override PartName="/ppt/media/image8.pct" ContentType="image/x-pi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A3FE3-AFE9-4F48-9ED5-3EDD73DF7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3C20-6F01-40F3-87F3-FB39AC4EE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5913-2282-4330-8E06-2C630A4BE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5163-497D-4DBD-85AC-B622C14AB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BB0A-759C-49B2-BE35-9D46AA432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DC1C-F231-4571-AE49-02FC4BED3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FEA0-28A7-44DD-BEBC-EAE7B6601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67F7-3CD0-4CE6-AFB1-047541629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29999-2EDA-4F9C-9B8C-7E1BFDECB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164E-492D-4493-8EA9-3D2740895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F5E1-88E2-4B7C-A699-E365B7F05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5AA00-C569-46B0-8C75-3ADAA87E3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F7F2D-C801-4642-A0F3-344A866ACE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image" Target="../media/image6.pct"/><Relationship Id="rId3" Type="http://schemas.openxmlformats.org/officeDocument/2006/relationships/image" Target="../media/image7.pct"/><Relationship Id="rId4" Type="http://schemas.openxmlformats.org/officeDocument/2006/relationships/image" Target="../media/image8.pct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altodextrin Binding Prote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ena Kos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609480" y="380880"/>
            <a:ext cx="7772400" cy="609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altodextrin Binding Protein (MBP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longs to the ATP binding casette (ABC) of active transport system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2133720"/>
            <a:ext cx="512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model for maltose transport in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E. col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1676520" y="2666880"/>
            <a:ext cx="5410080" cy="26989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437400" y="5518080"/>
            <a:ext cx="6032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lF and MalG are integral membrane prote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lK is the ATP-binding prote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Arial"/>
              </a:rPr>
              <a:t>Chemotaxis system in </a:t>
            </a:r>
            <a:r>
              <a:rPr b="0" i="1" lang="en-US" sz="3400" spc="-1" strike="noStrike">
                <a:solidFill>
                  <a:srgbClr val="333399"/>
                </a:solidFill>
                <a:latin typeface="Arial"/>
              </a:rPr>
              <a:t>E.coli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2590920" y="1752480"/>
            <a:ext cx="39621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5346720" y="1752480"/>
            <a:ext cx="3797280" cy="30862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304920" y="1828800"/>
            <a:ext cx="4000320" cy="28702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128600" y="5153040"/>
            <a:ext cx="10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O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689880" y="5105520"/>
            <a:ext cx="101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M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191120" y="3200400"/>
            <a:ext cx="1218960" cy="457200"/>
          </a:xfrm>
          <a:prstGeom prst="rightArrow">
            <a:avLst>
              <a:gd name="adj1" fmla="val 50000"/>
              <a:gd name="adj2" fmla="val 6665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333399"/>
                </a:solidFill>
                <a:latin typeface="Arial"/>
              </a:rPr>
              <a:t>Ligand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144792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hysiological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n-physiologic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2209680"/>
            <a:ext cx="1981080" cy="13716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533520" y="365760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lt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0" y="4191120"/>
            <a:ext cx="2514600" cy="16002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609480" y="5991120"/>
            <a:ext cx="320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41720" y="5962680"/>
            <a:ext cx="1425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ltotri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1752480" y="2819520"/>
            <a:ext cx="3289320" cy="16635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2727360" y="4267080"/>
            <a:ext cx="2030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ltotetrao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4"/>
          <a:stretch/>
        </p:blipFill>
        <p:spPr>
          <a:xfrm>
            <a:off x="5105520" y="2057400"/>
            <a:ext cx="4038480" cy="34164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6019920" y="5715000"/>
            <a:ext cx="228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yclodextr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3399"/>
                </a:solidFill>
                <a:latin typeface="Arial"/>
              </a:rPr>
              <a:t>Outline of my Pymol presentation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523520"/>
            <a:ext cx="81532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8000"/>
          </a:bodyPr>
          <a:p>
            <a:pPr marL="414360" indent="-414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.  Topology of the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.  Hydrogen Bond inter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35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operative hydrogen bo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35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sugar hydrogen bon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324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n der Waals intera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91600" indent="-258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omatic stack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1916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Structural Plasti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735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inge bending between two dom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35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ligosaccharide induced conformational ch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Specific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 Sites interacting with Membrane tran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-414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 Sites interacting with the Chemotaxis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143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35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73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3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35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04T06:28:33Z</dcterms:created>
  <dc:creator>Office 2004 Test Drive User</dc:creator>
  <dc:description/>
  <dc:language>en-US</dc:language>
  <cp:lastModifiedBy>Office 2004 Test Drive User</cp:lastModifiedBy>
  <dcterms:modified xsi:type="dcterms:W3CDTF">2007-12-04T15:23:32Z</dcterms:modified>
  <cp:revision>4</cp:revision>
  <dc:subject/>
  <dc:title>Maltodextrin Binding Protein</dc:title>
</cp:coreProperties>
</file>